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04A-1C25-433F-A9B1-6C05AAC4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E79-05D3-43F6-8ADA-D57A93D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AF-3A31-4AC5-96D4-09A79816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E2E-1936-436C-B602-F2E626B4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A0E-9E20-4C8E-862F-ACF1E070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5A8-C472-473C-B49E-3E9B75E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711-40CD-43D6-AE0C-96161B4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F2C-E877-4B2F-9783-E322094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AE8-F497-4ACD-834A-BB8A60A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2B1-9C38-4AB1-92F9-AC2E77A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DCA-F574-4EA6-8E47-644102E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E4C-9365-4251-BB11-1593048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F3D6-3424-4504-867D-07278601A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413000"/>
            <a:ext cx="8458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model performer can assist you performance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good f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iving ad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model example for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ea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technique (P.A.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76520"/>
            <a:ext cx="815328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who a model performer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the characteristics of a model per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how you can use a model performer to assist you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97000"/>
            <a:ext cx="845820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) Choos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on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kill or technique from an activity of your choice.  Describe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b) Compar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your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 with th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scribed in Part (a)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lease complete in your jotters for Wednesday 9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who a model performer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the characteristics of a model per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how you can use a model performer to assist you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066680"/>
            <a:ext cx="334152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 Part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98900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part of the NAB is done under exam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 You will complete this NAB on Wednesday 16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ecember.  You must ensure that you are prepared for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13372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o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assm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tional p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3720"/>
            <a:ext cx="84582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your jotter put the title “Model Perform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4 characteristics you would expect a model performer to have (this can relate to skill level or mental abil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341360"/>
            <a:ext cx="8458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haracteristics of a model perform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lu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tro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cellent decision ma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ariety of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nowledge of oppon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700280"/>
            <a:ext cx="8713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odel performers should display all the characteristics mentioned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consideration of quality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movement analysis schedu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catter graph (should demonstrate good placement the majority of the tim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773360"/>
            <a:ext cx="845820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can a model performer assist you to impro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four suggestions in your j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2T09:51:26Z</dcterms:modified>
  <cp:revision>29</cp:revision>
  <dc:subject/>
  <dc:title>Intermediate PE</dc:title>
</cp:coreProperties>
</file>